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F57-6AC6-4B94-87AB-8E79C887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340-1AA5-4663-BE7A-6F466965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0EE-5EB0-4A8A-8342-506FA2FB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812-3F7F-4398-898F-A66B0BBB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E41-E611-4182-9E17-9C6CA9D8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E5B-3414-4BD1-9370-9E3570CE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BB6-ACA8-4A24-BF7F-1469F30C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3F9-D60B-4C5D-A1AE-20DB0254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41B-7870-4413-A1E4-244D9D8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BFE-D904-4B0C-8575-AB6245D3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1ED-55DD-435D-B8D0-77B003E0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795-8A37-430E-897D-A30370F3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9BB2-32B2-4C1B-8B12-5F65CEE3C4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680" y="8366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Каневская Ольга Юрьев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000"/>
                </a:solidFill>
                <a:latin typeface="Calibri"/>
              </a:rPr>
              <a:t>83 школа г. Санкт-Петербург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zko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1801800" y="0"/>
            <a:ext cx="5540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0" y="291960"/>
            <a:ext cx="9144000" cy="6274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29852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471680" y="0"/>
            <a:ext cx="620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584280" y="0"/>
            <a:ext cx="7975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2198520" y="0"/>
            <a:ext cx="4746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2563920" y="0"/>
            <a:ext cx="4016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976320" y="0"/>
            <a:ext cx="7191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"/>
          <p:cNvPicPr/>
          <p:nvPr/>
        </p:nvPicPr>
        <p:blipFill>
          <a:blip r:embed="rId1"/>
          <a:stretch/>
        </p:blipFill>
        <p:spPr>
          <a:xfrm>
            <a:off x="2355840" y="0"/>
            <a:ext cx="4432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2424240" y="0"/>
            <a:ext cx="4295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2193840" y="131760"/>
            <a:ext cx="4756320" cy="6594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995480" y="0"/>
            <a:ext cx="5153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2467080" y="100080"/>
            <a:ext cx="4209840" cy="6657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0" y="125280"/>
            <a:ext cx="9144000" cy="6607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"/>
          <p:cNvPicPr/>
          <p:nvPr/>
        </p:nvPicPr>
        <p:blipFill>
          <a:blip r:embed="rId1"/>
          <a:stretch/>
        </p:blipFill>
        <p:spPr>
          <a:xfrm>
            <a:off x="213840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2116080" y="0"/>
            <a:ext cx="49118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tretch/>
        </p:blipFill>
        <p:spPr>
          <a:xfrm>
            <a:off x="2119320" y="0"/>
            <a:ext cx="4905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2444760" y="0"/>
            <a:ext cx="4254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12256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3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9:25:22Z</dcterms:created>
  <dc:creator>Админ</dc:creator>
  <dc:description/>
  <dc:language>en-US</dc:language>
  <cp:lastModifiedBy>Админ</cp:lastModifiedBy>
  <dcterms:modified xsi:type="dcterms:W3CDTF">2011-03-28T10:15:23Z</dcterms:modified>
  <cp:revision>6</cp:revision>
  <dc:subject/>
  <dc:title>Презентация PowerPoint</dc:title>
</cp:coreProperties>
</file>